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E89-7429-4BD7-BB3C-68C360D4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566-A2AF-426D-945F-EAF86E55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EAF-C62A-4628-B387-2BFB8EE2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F99-08CA-40FD-9FFD-08DA2B6E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D26-672B-42B6-BF51-85502B17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736-9251-4E7C-A612-9ED832ED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505-6969-40FA-86BC-2B511BD8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D70-7263-45C6-8898-A347D26B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FD1-7884-47DC-9B60-0A006E4F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F5F-F3F3-4560-BB7F-4E78A30F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BB1-F199-42AD-88E5-F6C532DA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B21-ADB7-466A-BC2C-A68A775E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4A1-E032-4F44-B966-BBB04C72CCE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1 Kráľ večný, veď nás stá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ľ večný, veď nás 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k boju sily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nad zlom zvíťazí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ieť smieme večný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nebude už smúto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ľ, sveta nepok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s nami budeš ve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blaženosti Zdr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ľ večný, veď nás 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hriech nás nezlom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tráca svoju vlád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bdieš ty nad n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návrat už sa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priprav na ten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 tebou smieme vstúp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ríše večn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ľ večný, veď nás 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odním bázeň, strach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ideme vpred sme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piesňou na per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vetlo z tvojho krí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cestu svieti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budeme tam v cieli, kde privítaš nás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31:57Z</dcterms:modified>
  <cp:revision>24</cp:revision>
  <dc:subject/>
  <dc:title>Je veľký náš Pán, on slávy je Kráľ Nech do všetkých strán  spev vrúcnych znie chvál.</dc:title>
</cp:coreProperties>
</file>